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31.wmf" ContentType="image/x-wmf"/>
  <Override PartName="/ppt/media/image27.png" ContentType="image/png"/>
  <Override PartName="/ppt/media/image30.wmf" ContentType="image/x-wmf"/>
  <Override PartName="/ppt/media/image23.png" ContentType="image/png"/>
  <Override PartName="/ppt/media/image22.png" ContentType="image/png"/>
  <Override PartName="/ppt/media/image24.jpeg" ContentType="image/jpeg"/>
  <Override PartName="/ppt/media/image18.png" ContentType="image/png"/>
  <Override PartName="/ppt/media/image20.png" ContentType="image/png"/>
  <Override PartName="/ppt/media/image29.wmf" ContentType="image/x-wmf"/>
  <Override PartName="/ppt/media/image11.png" ContentType="image/png"/>
  <Override PartName="/ppt/media/image32.wmf" ContentType="image/x-wmf"/>
  <Override PartName="/ppt/media/image12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8.png" ContentType="image/png"/>
  <Override PartName="/ppt/media/image36.wmf" ContentType="image/x-wmf"/>
  <Override PartName="/ppt/media/image16.png" ContentType="image/png"/>
  <Override PartName="/ppt/media/image9.png" ContentType="image/png"/>
  <Override PartName="/ppt/media/image37.wmf" ContentType="image/x-wmf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0.png" ContentType="image/png"/>
  <Override PartName="/ppt/media/image1.jpeg" ContentType="image/jpeg"/>
  <Override PartName="/ppt/media/image19.png" ContentType="image/png"/>
  <Override PartName="/ppt/media/image21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801-875E-4D85-8D43-E89C19D8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2F1E-B6AC-4915-B695-328841DA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E970F-8079-4A21-AB83-8F34ECFF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04C6C-CAA7-45B5-82AC-4749B501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5278D-EA1E-4B95-AF4E-47587274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2C7D3-B1E5-4E33-823F-2078E913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A14E9-A0B9-4196-95A1-0CCEF5F8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F6065-BCF7-417C-942F-3B117DF4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47F99-1FDE-4567-B1F5-4EB39A16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FC200-1E68-41C6-989F-C9F046BA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14319-8003-4D09-A06D-41D8E957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E6EC5-8228-46D7-B46C-8A3AFBCF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F74-DF65-4776-89E7-EA1D889E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64A98-677D-4728-8C1D-B78E4C24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620E6-BA59-483A-8689-6AB00295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DD7A2-12BC-4B77-9C93-12099E40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04EC2-3E48-4543-AB46-151644A9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6B0A3-7FE7-4F9C-831A-C16D9DAF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F8B65-E445-4909-A64D-FE621461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D0C17-36A0-4794-84CF-71EB29D7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4DB9F-88F9-4250-866C-D4EFF184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C5C8A-78FD-4676-B206-774CE3FF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13A55-57BB-449A-B345-8A746C9B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4FD-A94C-43C1-B352-E3F8902D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CA92D-C2C9-4731-AABE-9E8B46BE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7C746-A435-45FD-8701-1C3C4944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EB62F-BB83-4432-8208-B880D887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2D841-3AAC-4827-8C65-8F74B0C3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EA83A-D015-4049-99DD-1541A4CC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785EB-E8A7-42A8-98E9-B3F573BB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014EA-E3DB-47A6-B35C-BDFC7844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C471D-F99F-4133-B2CF-EDCB07DA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55171-77BA-4A27-AE0C-D68EB1F7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8866F-20D4-4D95-A17B-B32238D2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6B45-31B8-4C83-8D2D-6321CEA5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9B3BD-818C-4177-80AC-8AB27317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CF3C2-DC82-4BB9-8CE1-DEABF816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5DDAA-B08B-45BF-8DB3-80B291D0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4C275-464C-4111-B072-74877DE7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E5321-EF0C-4687-A056-294E2C75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57DF9-A7D4-4033-91DC-2D69225E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55667-07A1-4C4E-BE36-3A271844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577E0-8DDC-48FA-8017-D2F04902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EEEBC-FDD8-451A-B7C9-23356520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02E48-AABF-4401-934A-6099F5CC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EEE5-E45B-44BF-90A5-ED010E51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1842C-9D26-47BC-AF06-DF58E77F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32CF8-AEB4-49AB-8E47-1025647E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379A7-A392-4DEF-B9BA-ECB5379A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AFEC4-9945-4EDE-A985-F6B3197E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224D3-AF10-416E-9792-B8CA0B62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AB9FD2-4E33-4760-A8D8-79650E24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354B2-2536-4ACD-A01D-1A005F9F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47C94-1E47-4C96-9242-AC853E49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0A8B1A-6926-46D2-A6B7-24867DA2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DAF79-8D31-4B38-A558-743ABBCE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DA9C-173E-4C83-8386-B26E5DD9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A6FA1-87CC-45C6-8A2C-ABA914B4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210853-F908-481B-80A8-7FAC5861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EB18B7-61DE-479A-86B5-3C2B994E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B47FCB-B61C-4CA5-A2AD-07D87956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139550-1E69-4197-8C68-3FC480F8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88AE15-B6B2-4355-96BC-5C5517D6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71B51-BF65-4A21-BA91-32549706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9C7A18-EED1-47D9-BC70-F8B5999F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CB729E-8795-4403-8BF3-380F3B13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68A2EE-DCC9-4DE3-98FD-A0813713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6B5A-351B-4F96-9EA9-B124F69D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F7B740-D5F2-48E9-8218-C0362637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495D0D-03CF-404C-AA11-9A2253B2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27B9EE-DE88-4B0C-A40D-11C83493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CC955C-1DDC-46B0-AC3A-6DFA3A5E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4CC40F-0CF7-4764-8782-EC8D03ED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6B1A06-BF32-458B-8284-6633DDDA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41E320-4E22-4C26-A5B5-44C436FF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58696-6281-40EE-9439-F2F10896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775442-3577-4212-85A8-C467173A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8EF769-9249-416F-AD60-B0C51A73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1601-7851-45CF-A501-11B0FCCB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EB299F-BD8A-4CF3-B0BE-502DCDA4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4ED68A-3BA4-4A4D-9D81-9D11F109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B2713C-2CD4-4A28-B5CC-A2796B26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DF1062-2997-4226-8D69-08C55576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CF9AA5-6F5A-431A-8F60-0F3D34A3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5D01FB-9FBE-4953-B4A8-17A398C6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0FE27D-F08C-4888-896A-C9C3B9C2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203FBD-F7C4-409B-8572-00716983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5E388B-8298-45AB-B025-B8568B81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C6B3D-0D77-4BC1-A5C4-129C96A8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F669-4F86-4ADE-A456-00562AE1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45141A-4E38-4212-90FD-42404514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F2F9-C520-4840-A7B4-2A3E8B18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D73A-9614-4063-A221-97E34744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50F8-1E90-4B81-922B-810478E9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E0A8-9791-4D17-AF58-675C9882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D1A8-A4CE-42DC-9C82-76E36839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D9F0-ED4A-4A16-B704-54D94DD6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2BCE-E1E3-454F-8F31-56E64861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2CB43-FFBA-4E44-8A2B-1CE5A387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35B98-B0ED-44BA-BF36-A3B5E5E6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A743F-BB26-4253-8034-94B080AC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07617-B2D7-4F83-8D74-D212C91A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F0628-3D1A-4941-B4B2-4248E1F1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2A02-9729-471E-8550-B9A1757F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102C8-75AC-4A1A-A3F5-2E056428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814DB-FADC-433A-8A0A-74029920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F2E80-1FEA-4A2F-ACB0-35048064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FDEF9-80EE-4E7F-893A-82E082B0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2E70F-CE15-4AEA-87E8-35754312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98336-C7DB-4696-8DA2-7864AD93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52BDB-E76F-44E7-A007-24F2F2EB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4E5BC-BD30-4771-A0C4-EF8482E0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8BACD-B1E8-4A6E-A3C9-51DFFE6C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B1AF3-C4F1-4405-B98D-F17C9E6F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9BB-E17E-4E73-8207-46C50A68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AF1DD-D64B-41B8-A4E0-F1FA68CF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6C92C-05EE-468B-B099-97B1AFAC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50CB6-CE61-4E26-AB89-229942E8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6E71A-DD9D-4C3F-AE94-EC323996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0C152-7EBE-471A-BD90-1EF1169A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CA517-6C5C-464D-A749-D84039D9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A840A-BCFC-451C-B224-3EC6460B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38BE3-120B-4BDE-BF08-55921896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3D5B7-DFE7-4BF5-8CBD-93997640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38229-E40A-462B-88CB-4A15120C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E9EA-7CCA-4113-8CAF-D6F3C3FF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662C7-226D-4211-B94C-E98A1276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B4B78-EC0A-42D0-85A5-32DF72AD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51410-4B37-4051-8E98-ECD7C0D9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390A7-10F1-4E90-90DB-A2FC28B1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466DC-A734-4715-A8C7-B30F607D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756F5-D02B-4692-AAFA-3933033C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2E9E3-741A-4112-B463-AE85D87B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328D8-4E4F-4952-A34D-429648FC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6FF9C-7422-420D-8922-E825CC68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44EC9-2FAD-45DF-B9F6-D8141386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BB5-A7CB-450D-A75A-7CF1375F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28ACE-8ED0-4D84-8799-78845FE8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C80F4-FF5D-46B2-AA7F-B65189DF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8D34D-43BF-40CF-8224-BD591B96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F1A27-87ED-4EE3-B644-8EE6CEA8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EF6A6-7DBF-4D52-AD6A-CFE3F9F4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F506C-BCDA-4827-907C-C3D81857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CE386-8C59-4874-A110-08F689CD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916BE-FAAE-4818-9C55-8F7AED5B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0B19B-7F68-4A63-A574-A8CC9379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972C6-6AAC-4117-AFD7-B00AF492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6FA3-E6B4-4546-A92B-A2E4F813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17F1A-07CA-4102-AAFB-9395A75C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3AB32-4082-4B38-BD4A-FF6D4F8C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76506-9992-4501-81A6-5543F992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74C19-0937-4E56-89C6-4F9343EF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C6D0F-858B-4816-8082-2D76DFD5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E751C-8096-49AE-A394-D9DD6ABF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D2BA8-8183-43C9-B915-78ECE9D4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E7035-100E-441A-8062-2744BF20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72928-11F4-428A-8E8F-BABD9A70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516C0-593B-4DDF-8CFB-2DA7915B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1D5-0170-4DB7-890F-FCC15D62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62748-7407-4E1C-965B-3EFA7F16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F6BFE-F6E0-4E21-9964-1433CBFF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C9C70-9C22-4C64-BE3D-D236145B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E1801-D310-4DE4-A0AC-03A8BABD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1E0F7-7C4B-4FCA-92B4-8177459B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61EAF-6C20-47B8-9988-2C151AAF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3EB80-65F4-4620-B4DF-C0355A92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5778B-0248-4686-9A2D-40E9CD4A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41A19-E5AE-40D2-B07D-EAD6CDE8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ED335-6160-4BF6-87FE-B442E321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CFC-B00E-470B-BA4D-6C58B144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E771D-F95E-4D8C-9000-4BA29219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054A9-6C27-4E80-A6E3-6592146D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B4282-119F-414B-B344-1AEBA495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C22F6-6B51-48FC-B5B6-8772C449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F6D1E-B946-4BE0-BEEF-503A9E19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AD524-43A7-4974-A651-165A9E16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B5E88-E402-4B49-9FA6-C5C57F53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A582A-F311-4A09-B40B-E057CCE6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45A20-ED1E-400B-9741-A0D91313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E8727-6DC6-46E4-9D8E-7EF77416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C414-462C-4A0D-BF47-7CE88DC8B70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5350-5949-4118-8DD5-B3A08234538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7307-04A5-42B7-982A-FBE25A2CD52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57BF-8FED-4239-8440-7226922C073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7326-FB79-49A4-8A1E-CFD02F2ADCD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5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5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79DE-650B-46CE-BB23-9D463B81EA4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1143-27E9-458A-8496-CA6F3F3CF4B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4347-6E37-4FB1-A281-78F08DA73EA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1A52-6C4E-478F-BBFE-32F70DE0CC4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9781-F0B5-44A8-8CBD-8AD9766501D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E8ED-FCCC-465F-B634-5D1D0874149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D5EB-744D-49EA-A416-0EA4FD53A6E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4BFC-7822-41EB-A721-908EF1220D3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BB2B-6EF9-45E7-B498-2F03A64EB83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0648-4278-4E4B-B999-B0443EE44FD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Box 2"/>
          <p:cNvSpPr/>
          <p:nvPr/>
        </p:nvSpPr>
        <p:spPr>
          <a:xfrm>
            <a:off x="39528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7/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4"/>
          <p:cNvSpPr/>
          <p:nvPr/>
        </p:nvSpPr>
        <p:spPr>
          <a:xfrm>
            <a:off x="539640" y="299736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тичка хемија (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04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наест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Марија Д. Жив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2" descr=""/>
          <p:cNvPicPr/>
          <p:nvPr/>
        </p:nvPicPr>
        <p:blipFill>
          <a:blip r:embed="rId1"/>
          <a:stretch/>
        </p:blipFill>
        <p:spPr>
          <a:xfrm>
            <a:off x="2771640" y="1268280"/>
            <a:ext cx="3089520" cy="2659320"/>
          </a:xfrm>
          <a:prstGeom prst="rect">
            <a:avLst/>
          </a:prstGeom>
          <a:ln w="0">
            <a:noFill/>
          </a:ln>
        </p:spPr>
      </p:pic>
      <p:sp>
        <p:nvSpPr>
          <p:cNvPr id="791" name="Rectangle 2"/>
          <p:cNvSpPr/>
          <p:nvPr/>
        </p:nvSpPr>
        <p:spPr>
          <a:xfrm>
            <a:off x="182520" y="4297320"/>
            <a:ext cx="841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мањим презасићењима брзина нуклеације је релативно мала, па је и број насталих клица мали – хетерогена нуклеаци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"/>
          <p:cNvSpPr/>
          <p:nvPr/>
        </p:nvSpPr>
        <p:spPr>
          <a:xfrm>
            <a:off x="182520" y="5303880"/>
            <a:ext cx="864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ећим презасићењима крива има оштри раст и број насталих нуклеуса је велики– хомогена нуклеаци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1"/>
          <p:cNvSpPr/>
          <p:nvPr/>
        </p:nvSpPr>
        <p:spPr>
          <a:xfrm>
            <a:off x="182520" y="1844640"/>
            <a:ext cx="867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раста кристала зависи од презасиће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е талога не расту подједнако на свим површинама, па се ретко добијају геометријски правилни криста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ижим презасићењима кристали расту на неким од својих површина (добијају се плочице или штапић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"/>
          <p:cNvSpPr/>
          <p:nvPr/>
        </p:nvSpPr>
        <p:spPr>
          <a:xfrm>
            <a:off x="3405600" y="1138320"/>
            <a:ext cx="24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 крист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"/>
          <p:cNvSpPr/>
          <p:nvPr/>
        </p:nvSpPr>
        <p:spPr>
          <a:xfrm>
            <a:off x="182520" y="3940200"/>
            <a:ext cx="86104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ишим презасићењима, кристал расте на угловима и на ивицама (неправилни и разгранати кристали; као пахуљиц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јако високим презасићењима граде се аморфни талози (немају кристалну структуру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 честица или мањи агрегати се спајају у веће агрегате (агрегација) који нису стабилни и теже да се преуреде у правилну кристалну решетку (орјентациј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1"/>
          <p:cNvSpPr/>
          <p:nvPr/>
        </p:nvSpPr>
        <p:spPr>
          <a:xfrm>
            <a:off x="182520" y="2349360"/>
            <a:ext cx="64818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ељно је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бијање талога крупнијих чести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ложење из разблажених раствора (Q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ложење у топлим растворима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"/>
          <p:cNvSpPr/>
          <p:nvPr/>
        </p:nvSpPr>
        <p:spPr>
          <a:xfrm>
            <a:off x="182520" y="414972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 растворљивост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ша кристализ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8" name="Straight Arrow Connector 4"/>
          <p:cNvCxnSpPr/>
          <p:nvPr/>
        </p:nvCxnSpPr>
        <p:spPr>
          <a:xfrm>
            <a:off x="2933640" y="4376520"/>
            <a:ext cx="72144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799" name="Rectangle 5"/>
          <p:cNvSpPr/>
          <p:nvPr/>
        </p:nvSpPr>
        <p:spPr>
          <a:xfrm>
            <a:off x="914400" y="5229360"/>
            <a:ext cx="21607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x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x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6"/>
          <p:cNvSpPr/>
          <p:nvPr/>
        </p:nvSpPr>
        <p:spPr>
          <a:xfrm>
            <a:off x="914400" y="5943600"/>
            <a:ext cx="216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 сулфи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8"/>
          <p:cNvSpPr/>
          <p:nvPr/>
        </p:nvSpPr>
        <p:spPr>
          <a:xfrm>
            <a:off x="3243240" y="5484960"/>
            <a:ext cx="5043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 растворљивост –колоидни талоз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ight Brace 9"/>
          <p:cNvSpPr/>
          <p:nvPr/>
        </p:nvSpPr>
        <p:spPr>
          <a:xfrm>
            <a:off x="2786040" y="5222880"/>
            <a:ext cx="360360" cy="108108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081080"/>
              <a:gd name="textAreaBottom" fmla="*/ 1071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2"/>
          <p:cNvSpPr/>
          <p:nvPr/>
        </p:nvSpPr>
        <p:spPr>
          <a:xfrm>
            <a:off x="1852560" y="134460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јент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3"/>
          <p:cNvSpPr/>
          <p:nvPr/>
        </p:nvSpPr>
        <p:spPr>
          <a:xfrm>
            <a:off x="4094280" y="133668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ф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6570720" y="1417680"/>
            <a:ext cx="136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стал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ight Arrow 12"/>
          <p:cNvSpPr/>
          <p:nvPr/>
        </p:nvSpPr>
        <p:spPr>
          <a:xfrm>
            <a:off x="3324240" y="1565280"/>
            <a:ext cx="609480" cy="26496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b3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ight Arrow 13"/>
          <p:cNvSpPr/>
          <p:nvPr/>
        </p:nvSpPr>
        <p:spPr>
          <a:xfrm>
            <a:off x="5332320" y="1589040"/>
            <a:ext cx="1127160" cy="27000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3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4"/>
          <p:cNvSpPr/>
          <p:nvPr/>
        </p:nvSpPr>
        <p:spPr>
          <a:xfrm>
            <a:off x="5334840" y="124920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182520" y="1303200"/>
            <a:ext cx="15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гац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6"/>
          <p:cNvSpPr/>
          <p:nvPr/>
        </p:nvSpPr>
        <p:spPr>
          <a:xfrm>
            <a:off x="1532160" y="1457280"/>
            <a:ext cx="3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1"/>
          <p:cNvSpPr/>
          <p:nvPr/>
        </p:nvSpPr>
        <p:spPr>
          <a:xfrm>
            <a:off x="182520" y="21985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а површи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д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рна површина између честица талога и раствора у коме су те честице расподеље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м величине честица јако се повећава специфична површ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"/>
          <p:cNvSpPr/>
          <p:nvPr/>
        </p:nvSpPr>
        <p:spPr>
          <a:xfrm>
            <a:off x="198360" y="1646280"/>
            <a:ext cx="294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ецифична површ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182520" y="3890880"/>
            <a:ext cx="871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олоидни талози имају велику специфичну површину. Kоличина адсорбованих јона и наелектрисање површине одређују особине колои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4"/>
          <p:cNvSpPr/>
          <p:nvPr/>
        </p:nvSpPr>
        <p:spPr>
          <a:xfrm>
            <a:off x="191880" y="3429000"/>
            <a:ext cx="157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сорп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2886840" y="10904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лоидни тало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3" descr=""/>
          <p:cNvPicPr/>
          <p:nvPr/>
        </p:nvPicPr>
        <p:blipFill>
          <a:blip r:embed="rId1"/>
          <a:srcRect l="26650" t="54926" r="36166" b="13406"/>
          <a:stretch/>
        </p:blipFill>
        <p:spPr>
          <a:xfrm>
            <a:off x="2771640" y="5229360"/>
            <a:ext cx="2646360" cy="1266840"/>
          </a:xfrm>
          <a:prstGeom prst="rect">
            <a:avLst/>
          </a:prstGeom>
          <a:ln w="0">
            <a:noFill/>
          </a:ln>
        </p:spPr>
      </p:pic>
      <p:sp>
        <p:nvSpPr>
          <p:cNvPr id="817" name="Rectangle 8"/>
          <p:cNvSpPr/>
          <p:nvPr/>
        </p:nvSpPr>
        <p:spPr>
          <a:xfrm>
            <a:off x="2662200" y="4829040"/>
            <a:ext cx="36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l (s) →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l (колоид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1"/>
          <p:cNvSpPr/>
          <p:nvPr/>
        </p:nvSpPr>
        <p:spPr>
          <a:xfrm>
            <a:off x="182520" y="2268360"/>
            <a:ext cx="8677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ири правила, која делују истовремено, утичу на тенденцију колоидног талога да адсорбује један јон пре него друг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етх-Фајанс-Хахново правило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концентрациј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наелектрисања јо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величине јо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2"/>
          <p:cNvSpPr/>
          <p:nvPr/>
        </p:nvSpPr>
        <p:spPr>
          <a:xfrm>
            <a:off x="2178720" y="1224000"/>
            <a:ext cx="48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арни адсорпциони сло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4"/>
          <p:cNvSpPr/>
          <p:nvPr/>
        </p:nvSpPr>
        <p:spPr>
          <a:xfrm>
            <a:off x="274680" y="5049720"/>
            <a:ext cx="570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 адсорпције је онечишћење тало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3" descr="C:\Users\Maca\Desktop\Untitled10.png"/>
          <p:cNvPicPr/>
          <p:nvPr/>
        </p:nvPicPr>
        <p:blipFill>
          <a:blip r:embed="rId1"/>
          <a:srcRect l="0" t="720" r="0" b="0"/>
          <a:stretch/>
        </p:blipFill>
        <p:spPr>
          <a:xfrm>
            <a:off x="2384280" y="1041480"/>
            <a:ext cx="3962520" cy="4992480"/>
          </a:xfrm>
          <a:prstGeom prst="rect">
            <a:avLst/>
          </a:prstGeom>
          <a:ln w="0">
            <a:noFill/>
          </a:ln>
        </p:spPr>
      </p:pic>
      <p:sp>
        <p:nvSpPr>
          <p:cNvPr id="822" name="Rectangle 1"/>
          <p:cNvSpPr/>
          <p:nvPr/>
        </p:nvSpPr>
        <p:spPr>
          <a:xfrm>
            <a:off x="6035760" y="1666800"/>
            <a:ext cx="213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ген раствор (наелектрисања су избалансира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2"/>
          <p:cNvSpPr/>
          <p:nvPr/>
        </p:nvSpPr>
        <p:spPr>
          <a:xfrm>
            <a:off x="6035760" y="3211560"/>
            <a:ext cx="282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ј контра-јона (дифузан; дебљина зависи од конц. електроли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6035760" y="4324320"/>
            <a:ext cx="310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и адсорпциони слој (мала дебљина-адсорпција и десорпција су брз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6035760" y="531828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l крист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1693440" y="2708280"/>
            <a:ext cx="7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6"/>
          <p:cNvSpPr/>
          <p:nvPr/>
        </p:nvSpPr>
        <p:spPr>
          <a:xfrm>
            <a:off x="1697400" y="4508640"/>
            <a:ext cx="8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92160" y="3586320"/>
            <a:ext cx="13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струки електрични сло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8"/>
          <p:cNvSpPr/>
          <p:nvPr/>
        </p:nvSpPr>
        <p:spPr>
          <a:xfrm>
            <a:off x="1554120" y="5943600"/>
            <a:ext cx="583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матски приказ попречног пресека честиц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спендоване у раствору сребро-нитра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ight Brace 11"/>
          <p:cNvSpPr/>
          <p:nvPr/>
        </p:nvSpPr>
        <p:spPr>
          <a:xfrm flipH="1">
            <a:off x="1331280" y="3068640"/>
            <a:ext cx="360360" cy="180036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800360"/>
              <a:gd name="textAreaBottom" fmla="*/ 17910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Straight Arrow Connector 13"/>
          <p:cNvCxnSpPr/>
          <p:nvPr/>
        </p:nvCxnSpPr>
        <p:spPr>
          <a:xfrm>
            <a:off x="5468760" y="2120400"/>
            <a:ext cx="36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2" name="Straight Arrow Connector 14"/>
          <p:cNvCxnSpPr/>
          <p:nvPr/>
        </p:nvCxnSpPr>
        <p:spPr>
          <a:xfrm>
            <a:off x="5455800" y="3655800"/>
            <a:ext cx="359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3" name="Straight Arrow Connector 15"/>
          <p:cNvCxnSpPr/>
          <p:nvPr/>
        </p:nvCxnSpPr>
        <p:spPr>
          <a:xfrm>
            <a:off x="5455800" y="4570200"/>
            <a:ext cx="359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4" name="Straight Arrow Connector 16"/>
          <p:cNvCxnSpPr/>
          <p:nvPr/>
        </p:nvCxnSpPr>
        <p:spPr>
          <a:xfrm>
            <a:off x="5466960" y="549072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2" descr=""/>
          <p:cNvPicPr/>
          <p:nvPr/>
        </p:nvPicPr>
        <p:blipFill>
          <a:blip r:embed="rId1"/>
          <a:stretch/>
        </p:blipFill>
        <p:spPr>
          <a:xfrm>
            <a:off x="1015920" y="1628640"/>
            <a:ext cx="3960720" cy="351000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2"/>
          <p:cNvSpPr/>
          <p:nvPr/>
        </p:nvSpPr>
        <p:spPr>
          <a:xfrm>
            <a:off x="4976640" y="1628640"/>
            <a:ext cx="156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AgC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5007600" y="3313080"/>
            <a:ext cx="353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и адсорпциони сло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4"/>
          <p:cNvSpPr/>
          <p:nvPr/>
        </p:nvSpPr>
        <p:spPr>
          <a:xfrm>
            <a:off x="4983120" y="4105440"/>
            <a:ext cx="212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ј контра-ј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5"/>
          <p:cNvSpPr/>
          <p:nvPr/>
        </p:nvSpPr>
        <p:spPr>
          <a:xfrm>
            <a:off x="4976640" y="4572000"/>
            <a:ext cx="8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6"/>
          <p:cNvSpPr/>
          <p:nvPr/>
        </p:nvSpPr>
        <p:spPr>
          <a:xfrm>
            <a:off x="1332000" y="558972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l(s) → AgCl  (колоид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1"/>
          <p:cNvSpPr/>
          <p:nvPr/>
        </p:nvSpPr>
        <p:spPr>
          <a:xfrm>
            <a:off x="182520" y="2655720"/>
            <a:ext cx="86425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агулација колоид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п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цес спајања колоидних честица у веће честице (агрегате) при чему се гради чврста аморфна маса, која се брзо слеже и која може да се процед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оагулације долази ако се честице довољно приближе, тако да кохезионе силе могу да делују, а неопходно је да се одбојне силе међу честицама сведу на минимум и т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евањем (смањује се адсорпција, а тиме и наелектрисање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њем (олакшава приближавање честица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вањем електролита (слој контра-јона се сабиј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2" descr=""/>
          <p:cNvPicPr/>
          <p:nvPr/>
        </p:nvPicPr>
        <p:blipFill>
          <a:blip r:embed="rId1"/>
          <a:stretch/>
        </p:blipFill>
        <p:spPr>
          <a:xfrm>
            <a:off x="3522600" y="1765440"/>
            <a:ext cx="1800360" cy="7585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2789280" y="1179360"/>
            <a:ext cx="36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агулација коло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1"/>
          <p:cNvSpPr/>
          <p:nvPr/>
        </p:nvSpPr>
        <p:spPr>
          <a:xfrm>
            <a:off x="182520" y="163512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птизација је процес којим се коагулисани колоид преводи у своје почетно дисперзно стање тј. у стање колоидног раствора (супротно коагулациј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"/>
          <p:cNvSpPr/>
          <p:nvPr/>
        </p:nvSpPr>
        <p:spPr>
          <a:xfrm>
            <a:off x="185760" y="3749760"/>
            <a:ext cx="8640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птизације долази када се свеже коагулисани талог испира чистом водо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центрација електролита у двоструком слоју се смањуј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ој контра-јона се шир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ећавају се одбојне силе између чести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"/>
          <p:cNvSpPr/>
          <p:nvPr/>
        </p:nvSpPr>
        <p:spPr>
          <a:xfrm>
            <a:off x="3364560" y="1004760"/>
            <a:ext cx="22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птиз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4"/>
          <p:cNvSpPr/>
          <p:nvPr/>
        </p:nvSpPr>
        <p:spPr>
          <a:xfrm>
            <a:off x="1332000" y="2811600"/>
            <a:ext cx="576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l (колоидан)                               AgCl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Straight Arrow Connector 7"/>
          <p:cNvCxnSpPr/>
          <p:nvPr/>
        </p:nvCxnSpPr>
        <p:spPr>
          <a:xfrm>
            <a:off x="3432240" y="2944440"/>
            <a:ext cx="180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9" name="Straight Arrow Connector 8"/>
          <p:cNvCxnSpPr/>
          <p:nvPr/>
        </p:nvCxnSpPr>
        <p:spPr>
          <a:xfrm flipH="1">
            <a:off x="3363120" y="3109680"/>
            <a:ext cx="180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0" name="TextBox 9"/>
          <p:cNvSpPr/>
          <p:nvPr/>
        </p:nvSpPr>
        <p:spPr>
          <a:xfrm>
            <a:off x="3492360" y="245268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агул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10"/>
          <p:cNvSpPr/>
          <p:nvPr/>
        </p:nvSpPr>
        <p:spPr>
          <a:xfrm>
            <a:off x="3492360" y="317196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птиз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"/>
          <p:cNvSpPr/>
          <p:nvPr/>
        </p:nvSpPr>
        <p:spPr>
          <a:xfrm>
            <a:off x="182520" y="568332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олоидне честице адсорбују и молекуле воде (растварача), што доприноси стабил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2"/>
          <p:cNvSpPr/>
          <p:nvPr/>
        </p:nvSpPr>
        <p:spPr>
          <a:xfrm>
            <a:off x="1446120" y="1136520"/>
            <a:ext cx="62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дрофилни и хидрофобни коло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3"/>
          <p:cNvSpPr/>
          <p:nvPr/>
        </p:nvSpPr>
        <p:spPr>
          <a:xfrm>
            <a:off x="182520" y="24782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ни талози који показују велики афинитет према растварачу - гел (мрежаст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182520" y="3429000"/>
            <a:ext cx="871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оагулацију је неопходно загревање и висока концентрација електроли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ланчевине, скроб, желатин, ага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"/>
          <p:cNvSpPr/>
          <p:nvPr/>
        </p:nvSpPr>
        <p:spPr>
          <a:xfrm>
            <a:off x="182520" y="19209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дрофилни  коло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1"/>
          <p:cNvSpPr/>
          <p:nvPr/>
        </p:nvSpPr>
        <p:spPr>
          <a:xfrm>
            <a:off x="182520" y="2193840"/>
            <a:ext cx="612144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виметриј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заснива на мерењу масе супстанце која се у току анализе издваја из узорка, било у слободном облику или у облику једињења познатог хемијског саст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од метода таложења одређивана супстанца се додавањем реагенса хемијски таложи из раствора, талог се цеди, испира, суши или жари и м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"/>
          <p:cNvSpPr/>
          <p:nvPr/>
        </p:nvSpPr>
        <p:spPr>
          <a:xfrm>
            <a:off x="1554120" y="127944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виметријске методе анали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2" descr=""/>
          <p:cNvPicPr/>
          <p:nvPr/>
        </p:nvPicPr>
        <p:blipFill>
          <a:blip r:embed="rId1"/>
          <a:stretch/>
        </p:blipFill>
        <p:spPr>
          <a:xfrm>
            <a:off x="6732720" y="2286000"/>
            <a:ext cx="1904760" cy="254304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4"/>
          <p:cNvSpPr/>
          <p:nvPr/>
        </p:nvSpPr>
        <p:spPr>
          <a:xfrm>
            <a:off x="182520" y="53942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ким случајевима супстанца се одређује испаравањем. Мери се маса испарене супстанце или масе оста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1"/>
          <p:cNvSpPr/>
          <p:nvPr/>
        </p:nvSpPr>
        <p:spPr>
          <a:xfrm>
            <a:off x="182520" y="1906560"/>
            <a:ext cx="85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 привлаче воду (растварач), лако се коагулишу електролитима. Kоагулација је иреверзибилна, а добијени талог је сираст, лако се цеди и садржи мало воде 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"/>
          <p:cNvSpPr/>
          <p:nvPr/>
        </p:nvSpPr>
        <p:spPr>
          <a:xfrm>
            <a:off x="182520" y="407052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икатна кисеин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по карактеру хидрофобна, али се понаша као хидрофилни колоид (има особине и једног и другог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3"/>
          <p:cNvSpPr/>
          <p:nvPr/>
        </p:nvSpPr>
        <p:spPr>
          <a:xfrm>
            <a:off x="182520" y="3282840"/>
            <a:ext cx="68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оидни сумпор, злато, халогениди среб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5"/>
          <p:cNvSpPr/>
          <p:nvPr/>
        </p:nvSpPr>
        <p:spPr>
          <a:xfrm>
            <a:off x="190080" y="1371600"/>
            <a:ext cx="30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дрофобни коло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1"/>
          <p:cNvSpPr/>
          <p:nvPr/>
        </p:nvSpPr>
        <p:spPr>
          <a:xfrm>
            <a:off x="182520" y="223344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својих особина су погоднији  за рад, у поређењу са коагулисаним колоиди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кристала, чистоћа и могућност цеђења зависи од експерименталних усло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"/>
          <p:cNvSpPr/>
          <p:nvPr/>
        </p:nvSpPr>
        <p:spPr>
          <a:xfrm>
            <a:off x="2797200" y="126828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стални тало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2" descr=""/>
          <p:cNvPicPr/>
          <p:nvPr/>
        </p:nvPicPr>
        <p:blipFill>
          <a:blip r:embed="rId1"/>
          <a:stretch/>
        </p:blipFill>
        <p:spPr>
          <a:xfrm>
            <a:off x="6675480" y="5029200"/>
            <a:ext cx="2158920" cy="1620720"/>
          </a:xfrm>
          <a:prstGeom prst="rect">
            <a:avLst/>
          </a:prstGeom>
          <a:ln w="0">
            <a:noFill/>
          </a:ln>
        </p:spPr>
      </p:pic>
      <p:sp>
        <p:nvSpPr>
          <p:cNvPr id="864" name="Rectangle 1"/>
          <p:cNvSpPr/>
          <p:nvPr/>
        </p:nvSpPr>
        <p:spPr>
          <a:xfrm>
            <a:off x="457200" y="380196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ложење се врши из разблажених и топлих раствор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 цеђења је неопходно хлађењ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ложни реагенс се додаје лагано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з мешањ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1"/>
          <p:cNvSpPr/>
          <p:nvPr/>
        </p:nvSpPr>
        <p:spPr>
          <a:xfrm>
            <a:off x="182520" y="1989000"/>
            <a:ext cx="86425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жење из хомогених раствор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погоднија метода таложе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жни регенс се ствара погодном хемијском реакцијом директно у раствору супстанце коју таложимо - не додаје се у раство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нута је брза нуклеација због ниске презасићености раств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 је брже цеђење и мало онечишћење  (оклузија минималн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 је дужина процеса - од 30 минута до неколико сати уз грејање или кувањ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2"/>
          <p:cNvSpPr/>
          <p:nvPr/>
        </p:nvSpPr>
        <p:spPr>
          <a:xfrm>
            <a:off x="1773360" y="1179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жење из хомогених раст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1"/>
          <p:cNvSpPr/>
          <p:nvPr/>
        </p:nvSpPr>
        <p:spPr>
          <a:xfrm>
            <a:off x="182520" y="2098800"/>
            <a:ext cx="62467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рло слаба база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ећањем температуре раствора хидролизу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182520" y="3699000"/>
            <a:ext cx="86346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оплим, киселим, растворим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уклања, док амонијак остаје због чега с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раствора постепено повећа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6"/>
          <p:cNvSpPr/>
          <p:nvPr/>
        </p:nvSpPr>
        <p:spPr>
          <a:xfrm>
            <a:off x="6400800" y="2890800"/>
            <a:ext cx="19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90-100 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≈ 9,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7"/>
          <p:cNvSpPr/>
          <p:nvPr/>
        </p:nvSpPr>
        <p:spPr>
          <a:xfrm>
            <a:off x="914400" y="3068640"/>
            <a:ext cx="504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(N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→  C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2N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6"/>
          <p:cNvSpPr/>
          <p:nvPr/>
        </p:nvSpPr>
        <p:spPr>
          <a:xfrm>
            <a:off x="182520" y="1006560"/>
            <a:ext cx="85075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и пример таложења у хомогеним растворима је таложење 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рбамидом или урео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(N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7"/>
          <p:cNvSpPr/>
          <p:nvPr/>
        </p:nvSpPr>
        <p:spPr>
          <a:xfrm>
            <a:off x="182520" y="4572000"/>
            <a:ext cx="87901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а примена таложења у хомогеним растворима са уреом је код таложења хидратисаних оксида метала или базних со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и приликом издвајања кристалних талога који су растворљиви у киселим срединама (Ca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aCr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при чему се добијају крупнији и чистији кристали него применом амонија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1"/>
          <p:cNvSpPr/>
          <p:nvPr/>
        </p:nvSpPr>
        <p:spPr>
          <a:xfrm>
            <a:off x="182520" y="1712880"/>
            <a:ext cx="8651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старењем талога се подразумевају све иреверзибилне структурне промене које се одвијају у талогу од тренутка његовог настајањ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ђење већих честиц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ољшање њихове структуре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њиховог онечишћењ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естија је процес старења свеже насталог талога, у додиру са матичним раствором, на повишеној температу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2235960" y="111456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ење талога -дигест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"/>
          <p:cNvSpPr/>
          <p:nvPr/>
        </p:nvSpPr>
        <p:spPr>
          <a:xfrm>
            <a:off x="182520" y="4422600"/>
            <a:ext cx="889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ристализациј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еправилне честице прелазе у правил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ра рекристализациј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зв.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stwald-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во дозревањ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рађење већих кристал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а рачун мањи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гломерациј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једине честице деле заједнички слој контра јона –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оследица је цементација (грађење мостова између честиц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дификација талог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ансформација у стабилније, мање растворне обл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имеризациј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морфни талози лагано прелазе у кристалне модифик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2"/>
          <p:cNvSpPr/>
          <p:nvPr/>
        </p:nvSpPr>
        <p:spPr>
          <a:xfrm>
            <a:off x="182520" y="402264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 који се одвијају за време старења тало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1"/>
          <p:cNvSpPr/>
          <p:nvPr/>
        </p:nvSpPr>
        <p:spPr>
          <a:xfrm>
            <a:off x="182520" y="1978200"/>
            <a:ext cx="8879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 кристали имају већу растворљивост, па се мање честице примарног талога растварају, а на њихов рачун расту веће честице које су мање раствор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ако велики кристали расту, у простору око њих је све мање малих крист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м процесом се добијају талози веће чистоћ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2" descr=""/>
          <p:cNvPicPr/>
          <p:nvPr/>
        </p:nvPicPr>
        <p:blipFill>
          <a:blip r:embed="rId1"/>
          <a:stretch/>
        </p:blipFill>
        <p:spPr>
          <a:xfrm>
            <a:off x="2771640" y="4508640"/>
            <a:ext cx="2880000" cy="1309680"/>
          </a:xfrm>
          <a:prstGeom prst="rect">
            <a:avLst/>
          </a:prstGeom>
          <a:ln w="0">
            <a:noFill/>
          </a:ln>
        </p:spPr>
      </p:pic>
      <p:sp>
        <p:nvSpPr>
          <p:cNvPr id="879" name="Rectangle 3"/>
          <p:cNvSpPr/>
          <p:nvPr/>
        </p:nvSpPr>
        <p:spPr>
          <a:xfrm>
            <a:off x="2577600" y="1090440"/>
            <a:ext cx="39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stwald-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во дозревањ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1"/>
          <p:cNvSpPr/>
          <p:nvPr/>
        </p:nvSpPr>
        <p:spPr>
          <a:xfrm>
            <a:off x="2843640" y="1165320"/>
            <a:ext cx="34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нечишћење та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7451640" y="1920960"/>
            <a:ext cx="1405080" cy="1028520"/>
          </a:xfrm>
          <a:prstGeom prst="rect">
            <a:avLst/>
          </a:prstGeom>
          <a:ln w="0">
            <a:noFill/>
          </a:ln>
        </p:spPr>
      </p:pic>
      <p:sp>
        <p:nvSpPr>
          <p:cNvPr id="882" name="TextBox 8"/>
          <p:cNvSpPr/>
          <p:nvPr/>
        </p:nvSpPr>
        <p:spPr>
          <a:xfrm>
            <a:off x="182520" y="2432160"/>
            <a:ext cx="86472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ују се два типа онечишћења талог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копреципитациј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таложење) - онечишћење у моменту таложењ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тпреципитациј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кнадно таложење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ечишћење посл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здвајања тало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1"/>
          <p:cNvSpPr/>
          <p:nvPr/>
        </p:nvSpPr>
        <p:spPr>
          <a:xfrm>
            <a:off x="182520" y="1542960"/>
            <a:ext cx="872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ечишћење супстанцама које су, иначе у датој средини, растворне (захватање примес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2"/>
          <p:cNvSpPr/>
          <p:nvPr/>
        </p:nvSpPr>
        <p:spPr>
          <a:xfrm>
            <a:off x="2882880" y="1062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преципи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"/>
          <p:cNvSpPr/>
          <p:nvPr/>
        </p:nvSpPr>
        <p:spPr>
          <a:xfrm>
            <a:off x="182520" y="227952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копреципитације су адсорпција, оклузија и инклузи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2"/>
          <p:cNvSpPr/>
          <p:nvPr/>
        </p:nvSpPr>
        <p:spPr>
          <a:xfrm>
            <a:off x="182520" y="3243240"/>
            <a:ext cx="85327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главни облик онечишћења код колоидних талога, због велике специфичне површи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од кристалних талога се може занемари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се смањити повећањем температуре, таложењем из разблажених раствора, дигестијом, прањем талога и поновним таложењ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ефикасније је поновно таложење: после цеђења, талог се раствори у погодном средству (најчешће у киселинама) и поново талож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од таложења из хомогених раствора адсорпција је јако умање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3"/>
          <p:cNvSpPr/>
          <p:nvPr/>
        </p:nvSpPr>
        <p:spPr>
          <a:xfrm>
            <a:off x="3380760" y="2711520"/>
            <a:ext cx="20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сорп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1"/>
          <p:cNvSpPr/>
          <p:nvPr/>
        </p:nvSpPr>
        <p:spPr>
          <a:xfrm>
            <a:off x="182520" y="1849320"/>
            <a:ext cx="8642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ечишћење карактеристично за кристалне талог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 када страна супстанца буде ухваћена унутар брзо растућег крист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лудоване честице се нехомогено расподељују у кристалима и представљају ‚‚дефекте кристалне решетке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3"/>
          <p:cNvSpPr/>
          <p:nvPr/>
        </p:nvSpPr>
        <p:spPr>
          <a:xfrm>
            <a:off x="3598560" y="116532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лу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Picture 3" descr=""/>
          <p:cNvPicPr/>
          <p:nvPr/>
        </p:nvPicPr>
        <p:blipFill>
          <a:blip r:embed="rId1"/>
          <a:srcRect l="19562" t="30315" r="22329" b="40157"/>
          <a:stretch/>
        </p:blipFill>
        <p:spPr>
          <a:xfrm>
            <a:off x="3429000" y="4199040"/>
            <a:ext cx="3240000" cy="927000"/>
          </a:xfrm>
          <a:prstGeom prst="rect">
            <a:avLst/>
          </a:prstGeom>
          <a:ln w="0">
            <a:noFill/>
          </a:ln>
        </p:spPr>
      </p:pic>
      <p:sp>
        <p:nvSpPr>
          <p:cNvPr id="891" name="Rectangle 3"/>
          <p:cNvSpPr/>
          <p:nvPr/>
        </p:nvSpPr>
        <p:spPr>
          <a:xfrm>
            <a:off x="2250360" y="414972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лу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182520" y="520056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облик ‚‚дефекта кристалне решетке” представља механичк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арање нечистоћа – у току раста кристала заостају шупљине које су испуњене матичним раствор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4"/>
          <p:cNvSpPr/>
          <p:nvPr/>
        </p:nvSpPr>
        <p:spPr>
          <a:xfrm>
            <a:off x="182520" y="1268280"/>
            <a:ext cx="896148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облик оклузије се јавља при адсорпцији у току таложе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жење сулфата из раствор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о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четку талог им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јоне као примарни адсорпциони слој, 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јоне као слој контра-јон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5"/>
          <p:cNvSpPr/>
          <p:nvPr/>
        </p:nvSpPr>
        <p:spPr>
          <a:xfrm>
            <a:off x="3428280" y="3108240"/>
            <a:ext cx="25855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S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2N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6"/>
          <p:cNvSpPr/>
          <p:nvPr/>
        </p:nvSpPr>
        <p:spPr>
          <a:xfrm>
            <a:off x="182520" y="3639960"/>
            <a:ext cx="864072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и додатак реагенса доводи до замен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јона јоним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што доводи до даљег раста криста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зина раста кристала је велик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чег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стигну св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јони да се замене, па остају оклудовани у кристал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1"/>
          <p:cNvSpPr/>
          <p:nvPr/>
        </p:nvSpPr>
        <p:spPr>
          <a:xfrm>
            <a:off x="182520" y="522936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лузија не може да се смањи испирањем талога, али може дигестијом и поновним таложењ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од таложења из хомогених раствора практично не долази до оклуз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1"/>
          <p:cNvSpPr/>
          <p:nvPr/>
        </p:nvSpPr>
        <p:spPr>
          <a:xfrm>
            <a:off x="182520" y="162864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жењ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нтитативно (потпуно) када у раствору, изнад талога, заостаје мање од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који се тал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2597040" cy="20779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3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33066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1"/>
          <p:cNvSpPr/>
          <p:nvPr/>
        </p:nvSpPr>
        <p:spPr>
          <a:xfrm>
            <a:off x="182520" y="1989000"/>
            <a:ext cx="88930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арактеристична је за кристалне талог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оморфна инклузиј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рађење мешаних кристала) – копреципитовани јон се због погодне структуре, величине и наелектрисања „уклапа” у кристалну решетку талога – не долази до дефекта решет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2"/>
          <p:cNvSpPr/>
          <p:nvPr/>
        </p:nvSpPr>
        <p:spPr>
          <a:xfrm>
            <a:off x="3527280" y="1193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клу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8"/>
          <p:cNvSpPr/>
          <p:nvPr/>
        </p:nvSpPr>
        <p:spPr>
          <a:xfrm>
            <a:off x="182520" y="3789360"/>
            <a:ext cx="828216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имер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морфн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клузиј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парцијална замен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K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N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r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r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 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у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1"/>
          <p:cNvSpPr/>
          <p:nvPr/>
        </p:nvSpPr>
        <p:spPr>
          <a:xfrm>
            <a:off x="182520" y="1371600"/>
            <a:ext cx="858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изоморфна инклузиј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рађење чврстих раствора) – кристални облик онечишћења се нешто више разликује од кристалног облика талога – нечистоће овог типа се мање мешају са талогом од нечистоћа првог тип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2"/>
          <p:cNvSpPr/>
          <p:nvPr/>
        </p:nvSpPr>
        <p:spPr>
          <a:xfrm>
            <a:off x="182520" y="5303880"/>
            <a:ext cx="86407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ечишћење Ba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има је на pH = 1 значајно, а на  pH = 5 минимал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182520" y="2743200"/>
            <a:ext cx="82803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ципитација KH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ли  N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 Ba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5"/>
          <p:cNvSpPr/>
          <p:nvPr/>
        </p:nvSpPr>
        <p:spPr>
          <a:xfrm>
            <a:off x="182520" y="3565440"/>
            <a:ext cx="864252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не могу просторно заменити један B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ични радијуси), а како је H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торно сличан 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лектрична неутралност ће бити сачувана ако сваки пут кад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 замени B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 и један H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мени један 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1"/>
          <p:cNvSpPr/>
          <p:nvPr/>
        </p:nvSpPr>
        <p:spPr>
          <a:xfrm>
            <a:off x="182520" y="1920960"/>
            <a:ext cx="864252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преципитациј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к онечишћења код кога се нечистоћа, као слабо растворно једињење, издваја после издвајања примарног тало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ложењ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присуству 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, у свеже исталожено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лази се само мала количина 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. Ако се талог остави да стоји у матичном раствору на њему се постепено таложи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C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надно таложењ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алог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преципитација се спречава или бар смањује брзим цеђењем главног талога или поновним таложењ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естија повећава накнадно онечишћење тало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"/>
          <p:cNvSpPr/>
          <p:nvPr/>
        </p:nvSpPr>
        <p:spPr>
          <a:xfrm>
            <a:off x="2794320" y="1189080"/>
            <a:ext cx="33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тпреципи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3"/>
          <p:cNvSpPr/>
          <p:nvPr/>
        </p:nvSpPr>
        <p:spPr>
          <a:xfrm>
            <a:off x="182520" y="2344680"/>
            <a:ext cx="828216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мултано таложењ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истовремено таложење две супстанце заједничким реагенсом, јер су им растворљивости веома блис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жење с колектором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квантитативно издвајање супстанце која је присутна у траговима (сама се не таложи) уз велике количине другог тало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4"/>
          <p:cNvSpPr/>
          <p:nvPr/>
        </p:nvSpPr>
        <p:spPr>
          <a:xfrm>
            <a:off x="182520" y="1335240"/>
            <a:ext cx="81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ултано таложење и таложење с колектором не спадају у копреципитациј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1"/>
          <p:cNvSpPr/>
          <p:nvPr/>
        </p:nvSpPr>
        <p:spPr>
          <a:xfrm>
            <a:off x="182520" y="2049480"/>
            <a:ext cx="8553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за таложење јона који је у раствору присутан у ниским концентрацијама, тако да се додатком таложног реагенса не може исталожити (није достигнута вредност производа растворљивост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екад је могуће тај јон квантитативно уклонити из раствора и сакупити на неком другом талогу који се у раствору налази у макроколичи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који се користи за овакво „повлачење” или „сакупљање” назива се колектор или носа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вајање трагова олова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з урина на калцијум-фосфа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"/>
          <p:cNvSpPr/>
          <p:nvPr/>
        </p:nvSpPr>
        <p:spPr>
          <a:xfrm>
            <a:off x="1911240" y="11588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жење с колектором (носаче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1"/>
          <p:cNvSpPr/>
          <p:nvPr/>
        </p:nvSpPr>
        <p:spPr>
          <a:xfrm>
            <a:off x="182520" y="1827360"/>
            <a:ext cx="652464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ђење (филтрација) је операција одвајања талога од раствора помоћу средстава за цеђењ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средстава за филтрацију зависи од особина талога, величине честица и од тога да ли талог треба жарити или само суши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2623680" y="1090440"/>
            <a:ext cx="35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лтрација - цеђ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8"/>
          <p:cNvSpPr/>
          <p:nvPr/>
        </p:nvSpPr>
        <p:spPr>
          <a:xfrm>
            <a:off x="182520" y="3789360"/>
            <a:ext cx="61912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ава за филтрациј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тер папир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ативни и квантитативни различитог степена пороз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нчићи за цеђење - порозно дно (стаклени, порц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ски, гуч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ифугир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2" descr=""/>
          <p:cNvPicPr/>
          <p:nvPr/>
        </p:nvPicPr>
        <p:blipFill>
          <a:blip r:embed="rId1"/>
          <a:stretch/>
        </p:blipFill>
        <p:spPr>
          <a:xfrm>
            <a:off x="7184880" y="1628640"/>
            <a:ext cx="1708200" cy="213516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3" descr=""/>
          <p:cNvPicPr/>
          <p:nvPr/>
        </p:nvPicPr>
        <p:blipFill>
          <a:blip r:embed="rId2"/>
          <a:stretch/>
        </p:blipFill>
        <p:spPr>
          <a:xfrm>
            <a:off x="7451640" y="4338720"/>
            <a:ext cx="11350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1"/>
          <p:cNvSpPr/>
          <p:nvPr/>
        </p:nvSpPr>
        <p:spPr>
          <a:xfrm>
            <a:off x="182520" y="1684440"/>
            <a:ext cx="856764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цеђења талог се испира како би се непожељне супстанце уклониле што је могуће потпуније – могу да се уклоне само површинске нечистоћ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спирање се кори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(уколико се талог не раствара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који садржи малу количину таложног реагенса (дејство заједничког јона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годни и лако испарљиви електролит (спречава пептизацију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"/>
          <p:cNvSpPr/>
          <p:nvPr/>
        </p:nvSpPr>
        <p:spPr>
          <a:xfrm>
            <a:off x="3085200" y="112248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ирање та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2"/>
          <p:cNvSpPr/>
          <p:nvPr/>
        </p:nvSpPr>
        <p:spPr>
          <a:xfrm>
            <a:off x="182520" y="4773600"/>
            <a:ext cx="853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 се принцип екстракције: испирање више пута малом запремин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1"/>
          <p:cNvSpPr/>
          <p:nvPr/>
        </p:nvSpPr>
        <p:spPr>
          <a:xfrm>
            <a:off x="182520" y="5557680"/>
            <a:ext cx="864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додавања нове запремине течности за испирање, талог треба да се остави да се оцеди – изузетак су талози који се могу на ваздуху оксидовати, као и желатинозни тало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1"/>
          <p:cNvSpPr/>
          <p:nvPr/>
        </p:nvSpPr>
        <p:spPr>
          <a:xfrm>
            <a:off x="182520" y="1711440"/>
            <a:ext cx="864072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цеђења и испирања, талог треба да се доведе до константног састава, пре него што се изврши мерењ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алога се загревањем уклањ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рљиве нечистоћ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 се талог преводи у неки други облик погоднији за мерењ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2"/>
          <p:cNvSpPr/>
          <p:nvPr/>
        </p:nvSpPr>
        <p:spPr>
          <a:xfrm>
            <a:off x="2558880" y="1090440"/>
            <a:ext cx="42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шење и жарење та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4"/>
          <p:cNvSpPr/>
          <p:nvPr/>
        </p:nvSpPr>
        <p:spPr>
          <a:xfrm>
            <a:off x="2490480" y="4054320"/>
            <a:ext cx="351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гравиметријска кри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Group 7"/>
          <p:cNvGrpSpPr/>
          <p:nvPr/>
        </p:nvGrpSpPr>
        <p:grpSpPr>
          <a:xfrm>
            <a:off x="2308320" y="4508640"/>
            <a:ext cx="4064040" cy="2220840"/>
            <a:chOff x="2308320" y="4508640"/>
            <a:chExt cx="4064040" cy="2220840"/>
          </a:xfrm>
        </p:grpSpPr>
        <p:sp>
          <p:nvSpPr>
            <p:cNvPr id="923" name="Rectangle 5"/>
            <p:cNvSpPr/>
            <p:nvPr/>
          </p:nvSpPr>
          <p:spPr>
            <a:xfrm>
              <a:off x="2308320" y="4923000"/>
              <a:ext cx="1080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са (g)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4" name="Picture 2" descr=""/>
            <p:cNvPicPr/>
            <p:nvPr/>
          </p:nvPicPr>
          <p:blipFill>
            <a:blip r:embed="rId1"/>
            <a:srcRect l="1352" t="0" r="0" b="0"/>
            <a:stretch/>
          </p:blipFill>
          <p:spPr>
            <a:xfrm>
              <a:off x="3073680" y="4508640"/>
              <a:ext cx="3298680" cy="2220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1"/>
          <p:cNvSpPr/>
          <p:nvPr/>
        </p:nvSpPr>
        <p:spPr>
          <a:xfrm>
            <a:off x="2398680" y="1096920"/>
            <a:ext cx="48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да у чврстим супстанц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4"/>
          <p:cNvSpPr/>
          <p:nvPr/>
        </p:nvSpPr>
        <p:spPr>
          <a:xfrm>
            <a:off x="182520" y="1687680"/>
            <a:ext cx="889308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тна в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да која чини део хемијског састава супстанце и присутна је у стехиометријском одно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стална в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ке супстанце кристалишу као хидрати, стабилни на ваздуху при одређеној температури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итуциона в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појављује се у хемијској формули, већ настаје као производ разградње супстанце при повишеној температури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(OH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CaO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5"/>
          <p:cNvSpPr/>
          <p:nvPr/>
        </p:nvSpPr>
        <p:spPr>
          <a:xfrm>
            <a:off x="182520" y="4114800"/>
            <a:ext cx="8642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битна в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е представља део хемијског састава супстанце и није присутна у стехиометријским пропорција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сорбована вода  –  хигроскопна в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нак мономолекулски слој на површини чврсте супстанц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рбована в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личина воде у унутрашњим пукотинама и капиларама, (силика-гел, скроб, целулоза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лудована в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да „ухваћена” унутар кристалне структуре за време настајања крист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TextBox 10"/>
          <p:cNvSpPr/>
          <p:nvPr/>
        </p:nvSpPr>
        <p:spPr>
          <a:xfrm>
            <a:off x="182520" y="1622520"/>
            <a:ext cx="887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роскопност је свосјтво супстанце да из околине упија и везује во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својство супстанци може да доведе до потешкоћа у раду са њима (нетачно мерење), али се неке од ових супстанци могу користити и  као средства за сушењ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ва средства се примењују у ексикаторима у којима се чувају сушене или жарене супстанце током хлађењ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"/>
          <p:cNvSpPr/>
          <p:nvPr/>
        </p:nvSpPr>
        <p:spPr>
          <a:xfrm>
            <a:off x="182520" y="3724200"/>
            <a:ext cx="484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а ефикасност неких средста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ушењ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2"/>
          <p:cNvSpPr/>
          <p:nvPr/>
        </p:nvSpPr>
        <p:spPr>
          <a:xfrm>
            <a:off x="1367280" y="1006560"/>
            <a:ext cx="61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гроскопност и средства за суш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182520" y="4487760"/>
            <a:ext cx="396072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(Cl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 капац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O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 капац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O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 капац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нх.) - умерен капацит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 капацит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 капацит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ika-gel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 капац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3" descr=""/>
          <p:cNvPicPr/>
          <p:nvPr/>
        </p:nvPicPr>
        <p:blipFill>
          <a:blip r:embed="rId1"/>
          <a:stretch/>
        </p:blipFill>
        <p:spPr>
          <a:xfrm>
            <a:off x="7221600" y="5200560"/>
            <a:ext cx="1106280" cy="995400"/>
          </a:xfrm>
          <a:prstGeom prst="rect">
            <a:avLst/>
          </a:prstGeom>
          <a:ln w="0">
            <a:noFill/>
          </a:ln>
        </p:spPr>
      </p:pic>
      <p:sp>
        <p:nvSpPr>
          <p:cNvPr id="933" name="Rectangle 7"/>
          <p:cNvSpPr/>
          <p:nvPr/>
        </p:nvSpPr>
        <p:spPr>
          <a:xfrm>
            <a:off x="7093080" y="6346800"/>
            <a:ext cx="14396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нх.)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8"/>
          <p:cNvSpPr/>
          <p:nvPr/>
        </p:nvSpPr>
        <p:spPr>
          <a:xfrm>
            <a:off x="5456160" y="6348240"/>
            <a:ext cx="63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Group 11"/>
          <p:cNvGrpSpPr/>
          <p:nvPr/>
        </p:nvGrpSpPr>
        <p:grpSpPr>
          <a:xfrm>
            <a:off x="5170320" y="5013360"/>
            <a:ext cx="1202040" cy="1295280"/>
            <a:chOff x="5170320" y="5013360"/>
            <a:chExt cx="1202040" cy="1295280"/>
          </a:xfrm>
        </p:grpSpPr>
        <p:pic>
          <p:nvPicPr>
            <p:cNvPr id="936" name="Picture 2" descr=""/>
            <p:cNvPicPr/>
            <p:nvPr/>
          </p:nvPicPr>
          <p:blipFill>
            <a:blip r:embed="rId2"/>
            <a:stretch/>
          </p:blipFill>
          <p:spPr>
            <a:xfrm>
              <a:off x="5170320" y="5013360"/>
              <a:ext cx="1202040" cy="11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Curved Up Arrow 9"/>
            <p:cNvSpPr/>
            <p:nvPr/>
          </p:nvSpPr>
          <p:spPr>
            <a:xfrm>
              <a:off x="5576760" y="6151680"/>
              <a:ext cx="333360" cy="156960"/>
            </a:xfrm>
            <a:custGeom>
              <a:avLst/>
              <a:gdLst>
                <a:gd name="textAreaLeft" fmla="*/ 68400 w 333360"/>
                <a:gd name="textAreaRight" fmla="*/ 245160 w 333360"/>
                <a:gd name="textAreaTop" fmla="*/ 20880 h 156960"/>
                <a:gd name="textAreaBottom" fmla="*/ 13608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890" hR="21600" stAng="10800000" swAng="-5400000"/>
                  <a:lnTo>
                    <a:pt x="11437" y="21600"/>
                  </a:lnTo>
                  <a:arcTo wR="8890" hR="21600" stAng="5400000" swAng="-3473799"/>
                  <a:lnTo>
                    <a:pt x="21318" y="5400"/>
                  </a:lnTo>
                  <a:lnTo>
                    <a:pt x="19053" y="0"/>
                  </a:lnTo>
                  <a:lnTo>
                    <a:pt x="16223" y="5400"/>
                  </a:lnTo>
                  <a:lnTo>
                    <a:pt x="17497" y="5400"/>
                  </a:lnTo>
                  <a:arcTo wR="8890" hR="21600" stAng="1926201" swAng="3269245"/>
                  <a:lnTo>
                    <a:pt x="10163" y="21377"/>
                  </a:lnTo>
                  <a:arcTo wR="8890" hR="21600" stAng="5604554" swAng="5195446"/>
                  <a:close/>
                </a:path>
                <a:path fill="darkenLess" w="21600" h="21600">
                  <a:moveTo>
                    <a:pt x="0" y="0"/>
                  </a:moveTo>
                  <a:arcTo wR="8890" hR="21600" stAng="10800000" swAng="-5400000"/>
                  <a:lnTo>
                    <a:pt x="11437" y="21600"/>
                  </a:lnTo>
                  <a:arcTo wR="8890" hR="21600" stAng="5400000" swAng="204554"/>
                  <a:lnTo>
                    <a:pt x="10163" y="21377"/>
                  </a:lnTo>
                  <a:arcTo wR="8890" hR="21600" stAng="5604554" swAng="5195446"/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14"/>
          <p:cNvGrpSpPr/>
          <p:nvPr/>
        </p:nvGrpSpPr>
        <p:grpSpPr>
          <a:xfrm>
            <a:off x="5651640" y="3651120"/>
            <a:ext cx="2141280" cy="1217880"/>
            <a:chOff x="5651640" y="3651120"/>
            <a:chExt cx="2141280" cy="1217880"/>
          </a:xfrm>
        </p:grpSpPr>
        <p:pic>
          <p:nvPicPr>
            <p:cNvPr id="939" name="Picture 5" descr="C:\Users\Maca\Desktop\Untitled11.png"/>
            <p:cNvPicPr/>
            <p:nvPr/>
          </p:nvPicPr>
          <p:blipFill>
            <a:blip r:embed="rId3"/>
            <a:stretch/>
          </p:blipFill>
          <p:spPr>
            <a:xfrm>
              <a:off x="5651640" y="3666240"/>
              <a:ext cx="1949760" cy="12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TextBox 13"/>
            <p:cNvSpPr/>
            <p:nvPr/>
          </p:nvSpPr>
          <p:spPr>
            <a:xfrm>
              <a:off x="6712560" y="3651120"/>
              <a:ext cx="1080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ксикатор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1"/>
          <p:cNvSpPr/>
          <p:nvPr/>
        </p:nvSpPr>
        <p:spPr>
          <a:xfrm>
            <a:off x="182520" y="1268280"/>
            <a:ext cx="896148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к гравиметријске анализ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састоји из следећих фа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231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ожењ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231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рење талога, најчешће на повишеној температури (дигестија)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231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ђењ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231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њање нечистоћа: испирањем или поновним таложењем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ођење талога у облик чија се маса мери (термичка обрад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а)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шење или жарењ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ење масе талог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ачунавање резултат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8"/>
          <p:cNvSpPr/>
          <p:nvPr/>
        </p:nvSpPr>
        <p:spPr>
          <a:xfrm>
            <a:off x="2021760" y="4206960"/>
            <a:ext cx="47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ски таложни реаген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9"/>
          <p:cNvSpPr/>
          <p:nvPr/>
        </p:nvSpPr>
        <p:spPr>
          <a:xfrm>
            <a:off x="182520" y="4992840"/>
            <a:ext cx="889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 се користе за гравиметријско одређивање неорганских супстанц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неорганским јонима дај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або растворне соли јонског карактер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або растворне хелате (много већи значај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8"/>
          <p:cNvSpPr/>
          <p:nvPr/>
        </p:nvSpPr>
        <p:spPr>
          <a:xfrm>
            <a:off x="2153160" y="1238400"/>
            <a:ext cx="50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ргански таложни реаген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12"/>
          <p:cNvSpPr/>
          <p:nvPr/>
        </p:nvSpPr>
        <p:spPr>
          <a:xfrm>
            <a:off x="182520" y="1900080"/>
            <a:ext cx="88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ски таложни реагенси доводе до грађења слабо растворних соли или хидрокси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ко су селективни, па је често пре њихове примене за таложење неког јона потребно одвојити већи део присутних елемена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се уклањају са талога и ретко изазивају потешкоће при одређивању других супстанци у филтра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1"/>
          <p:cNvSpPr/>
          <p:nvPr/>
        </p:nvSpPr>
        <p:spPr>
          <a:xfrm>
            <a:off x="182520" y="1811160"/>
            <a:ext cx="8353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је селективан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 слабо растворне хелате, MLn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сна селективност се постиже контролисањем pH средин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селективности се најчешће користе маскирајући реагенси (EDTA, C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3"/>
          <p:cNvSpPr/>
          <p:nvPr/>
        </p:nvSpPr>
        <p:spPr>
          <a:xfrm>
            <a:off x="1715040" y="512604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ксихино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5"/>
          <p:cNvSpPr/>
          <p:nvPr/>
        </p:nvSpPr>
        <p:spPr>
          <a:xfrm>
            <a:off x="182520" y="6043680"/>
            <a:ext cx="576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дређивање: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еше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М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8" name="Object 2"/>
          <p:cNvGraphicFramePr/>
          <p:nvPr/>
        </p:nvGraphicFramePr>
        <p:xfrm>
          <a:off x="2087640" y="3903840"/>
          <a:ext cx="1374840" cy="114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7640" y="3903840"/>
                    <a:ext cx="137484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0" name="Object 3"/>
          <p:cNvGraphicFramePr/>
          <p:nvPr/>
        </p:nvGraphicFramePr>
        <p:xfrm>
          <a:off x="4524480" y="3789360"/>
          <a:ext cx="1374840" cy="13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24480" y="3789360"/>
                    <a:ext cx="137484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2" name="Right Arrow 8"/>
          <p:cNvSpPr/>
          <p:nvPr/>
        </p:nvSpPr>
        <p:spPr>
          <a:xfrm>
            <a:off x="3808440" y="444348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3"/>
          <p:cNvSpPr/>
          <p:nvPr/>
        </p:nvSpPr>
        <p:spPr>
          <a:xfrm>
            <a:off x="4246560" y="512280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и компл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јоном ме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2026440" y="1135080"/>
            <a:ext cx="51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син или </a:t>
            </a:r>
            <a:r>
              <a:rPr b="1" lang="pt-B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дроксихино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"/>
          <p:cNvSpPr/>
          <p:nvPr/>
        </p:nvSpPr>
        <p:spPr>
          <a:xfrm>
            <a:off x="2290680" y="117936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MG - диметилглиокс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2"/>
          <p:cNvSpPr/>
          <p:nvPr/>
        </p:nvSpPr>
        <p:spPr>
          <a:xfrm>
            <a:off x="234000" y="5353200"/>
            <a:ext cx="840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лекс црвене боје, таложи се из слабо киселих, неутрални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лабо амонијачних  раствор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лекс жуте боје, таложи се из киселих раствор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7" name="Object 2"/>
          <p:cNvGraphicFramePr/>
          <p:nvPr/>
        </p:nvGraphicFramePr>
        <p:xfrm>
          <a:off x="250920" y="3292560"/>
          <a:ext cx="8332560" cy="19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292560"/>
                    <a:ext cx="8332560" cy="19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9" name="TextBox 4"/>
          <p:cNvSpPr/>
          <p:nvPr/>
        </p:nvSpPr>
        <p:spPr>
          <a:xfrm>
            <a:off x="182520" y="1814400"/>
            <a:ext cx="889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 кристална супстанца, нерастворна у води и лако растворна у органским растварач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је од најселективнијих таложних реагенаса, најчешће примењиван као таложни реагенс за N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Pd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1"/>
          <p:cNvSpPr/>
          <p:nvPr/>
        </p:nvSpPr>
        <p:spPr>
          <a:xfrm>
            <a:off x="182520" y="2349360"/>
            <a:ext cx="828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омпонента која се одређује квантитативно се издваја из узорка у облику лако испарљивог једиње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2"/>
          <p:cNvSpPr/>
          <p:nvPr/>
        </p:nvSpPr>
        <p:spPr>
          <a:xfrm>
            <a:off x="1244520" y="1135080"/>
            <a:ext cx="66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виметријска одређивања заснована на испарљ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182520" y="3481560"/>
            <a:ext cx="864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се може изводи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ректн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њем масе испарене супстанц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директн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ерењем масе остатка (мање погодно)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5"/>
          <p:cNvSpPr/>
          <p:nvPr/>
        </p:nvSpPr>
        <p:spPr>
          <a:xfrm>
            <a:off x="182520" y="499104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ма на бази испарљивости се може одређивати више супстанци, али се најчешће одређују вода и угљеник(IV)-окси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2"/>
          <p:cNvSpPr/>
          <p:nvPr/>
        </p:nvSpPr>
        <p:spPr>
          <a:xfrm>
            <a:off x="182520" y="4815000"/>
            <a:ext cx="8282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рљивост се користи и за уклањање неких супстанци из узор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, амонијум-соли, силицијума у облик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7"/>
          <p:cNvSpPr/>
          <p:nvPr/>
        </p:nvSpPr>
        <p:spPr>
          <a:xfrm>
            <a:off x="182520" y="1868400"/>
            <a:ext cx="8340840" cy="29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д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одређује директном методом тако што се испарена вода селективно сакупља на неком адсорбенсу специфичном за воду (Mg(Cl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гљеник(IV)-оксид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одређује директном методом са карбонатима. Карбонати се обично разлажу киселинама ослобађајући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се загревањем лако уклања из узорка и селективно хвата на одговарајућем адсорбенсу (у натронском кречу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1"/>
          <p:cNvSpPr/>
          <p:nvPr/>
        </p:nvSpPr>
        <p:spPr>
          <a:xfrm>
            <a:off x="182520" y="1917720"/>
            <a:ext cx="802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ериментално се мере две величине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а узорка узетог за анализу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а талога познатог хемијског састава добијеног анализ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2"/>
          <p:cNvSpPr/>
          <p:nvPr/>
        </p:nvSpPr>
        <p:spPr>
          <a:xfrm>
            <a:off x="2004840" y="12096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рачунавања у гравиметр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3"/>
          <p:cNvSpPr/>
          <p:nvPr/>
        </p:nvSpPr>
        <p:spPr>
          <a:xfrm>
            <a:off x="182520" y="314964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 се масени удео одређиване компонен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4"/>
          <p:cNvSpPr/>
          <p:nvPr/>
        </p:nvSpPr>
        <p:spPr>
          <a:xfrm>
            <a:off x="3165480" y="4073400"/>
            <a:ext cx="46306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а компоненте А у узор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зорк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а узорка који се анализи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6"/>
          <p:cNvSpPr/>
          <p:nvPr/>
        </p:nvSpPr>
        <p:spPr>
          <a:xfrm>
            <a:off x="182520" y="5235480"/>
            <a:ext cx="864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и талог који се у гравиметријској анализи после сушења и жарења мери је врло ретко тражена компонента 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1" name="Object 3"/>
              <p:cNvSpPr txBox="1"/>
              <p:nvPr/>
            </p:nvSpPr>
            <p:spPr>
              <a:xfrm>
                <a:off x="914400" y="3952800"/>
                <a:ext cx="15033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zork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1"/>
          <p:cNvSpPr/>
          <p:nvPr/>
        </p:nvSpPr>
        <p:spPr>
          <a:xfrm>
            <a:off x="182520" y="1268280"/>
            <a:ext cx="86425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ни талог се стехиометријски може повезати са компонентом 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а мереног талога (мерни облик) се прерачунава у одговарајућу масу тражене компонен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ачунавање се врши помоћу гравиметријског факт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2"/>
          <p:cNvSpPr/>
          <p:nvPr/>
        </p:nvSpPr>
        <p:spPr>
          <a:xfrm>
            <a:off x="182520" y="299412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виметријски фактор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који показује колика маса тражене супстанце одговара јединици масе мерене супстан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1"/>
          <p:cNvSpPr/>
          <p:nvPr/>
        </p:nvSpPr>
        <p:spPr>
          <a:xfrm>
            <a:off x="182520" y="3944880"/>
            <a:ext cx="900108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и израз који дефинише гравиметријски фактор за прерачунавање мас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мас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2"/>
          <p:cNvSpPr/>
          <p:nvPr/>
        </p:nvSpPr>
        <p:spPr>
          <a:xfrm>
            <a:off x="2438640" y="5029200"/>
            <a:ext cx="21265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F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  2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6" name="Object 3"/>
              <p:cNvSpPr txBox="1"/>
              <p:nvPr/>
            </p:nvSpPr>
            <p:spPr>
              <a:xfrm>
                <a:off x="914400" y="5589720"/>
                <a:ext cx="17557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Object 5"/>
              <p:cNvSpPr txBox="1"/>
              <p:nvPr/>
            </p:nvSpPr>
            <p:spPr>
              <a:xfrm>
                <a:off x="4114800" y="5589720"/>
                <a:ext cx="303516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99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8" name="Right Arrow 7"/>
          <p:cNvSpPr/>
          <p:nvPr/>
        </p:nvSpPr>
        <p:spPr>
          <a:xfrm>
            <a:off x="3132000" y="5950080"/>
            <a:ext cx="555840" cy="199800"/>
          </a:xfrm>
          <a:prstGeom prst="rightArrow">
            <a:avLst>
              <a:gd name="adj1" fmla="val 50000"/>
              <a:gd name="adj2" fmla="val 50076"/>
            </a:avLst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1"/>
          <p:cNvSpPr/>
          <p:nvPr/>
        </p:nvSpPr>
        <p:spPr>
          <a:xfrm>
            <a:off x="182520" y="1096920"/>
            <a:ext cx="890748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и израз који дефинише гравиметријски фактор за прерачунавање мас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мас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3"/>
          <p:cNvSpPr/>
          <p:nvPr/>
        </p:nvSpPr>
        <p:spPr>
          <a:xfrm>
            <a:off x="2325600" y="2154240"/>
            <a:ext cx="2294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F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2F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Object 3"/>
              <p:cNvSpPr txBox="1"/>
              <p:nvPr/>
            </p:nvSpPr>
            <p:spPr>
              <a:xfrm>
                <a:off x="1371600" y="2743200"/>
                <a:ext cx="46148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3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5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66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2" name="Rectangle 3"/>
          <p:cNvSpPr/>
          <p:nvPr/>
        </p:nvSpPr>
        <p:spPr>
          <a:xfrm>
            <a:off x="285840" y="4226040"/>
            <a:ext cx="1480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3"/>
          <p:cNvSpPr/>
          <p:nvPr/>
        </p:nvSpPr>
        <p:spPr>
          <a:xfrm>
            <a:off x="290880" y="4954680"/>
            <a:ext cx="175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Object 5"/>
              <p:cNvSpPr txBox="1"/>
              <p:nvPr/>
            </p:nvSpPr>
            <p:spPr>
              <a:xfrm>
                <a:off x="2527200" y="4149720"/>
                <a:ext cx="1343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S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Object 4"/>
              <p:cNvSpPr txBox="1"/>
              <p:nvPr/>
            </p:nvSpPr>
            <p:spPr>
              <a:xfrm>
                <a:off x="2508120" y="4834080"/>
                <a:ext cx="14144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S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6" name="TextBox 8"/>
          <p:cNvSpPr/>
          <p:nvPr/>
        </p:nvSpPr>
        <p:spPr>
          <a:xfrm>
            <a:off x="182520" y="367200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 израчунавања гравиметријских фак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3"/>
          <p:cNvSpPr/>
          <p:nvPr/>
        </p:nvSpPr>
        <p:spPr>
          <a:xfrm>
            <a:off x="291960" y="5754600"/>
            <a:ext cx="183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2F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3"/>
          <p:cNvSpPr/>
          <p:nvPr/>
        </p:nvSpPr>
        <p:spPr>
          <a:xfrm>
            <a:off x="4644000" y="4527720"/>
            <a:ext cx="226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2M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3"/>
          <p:cNvSpPr/>
          <p:nvPr/>
        </p:nvSpPr>
        <p:spPr>
          <a:xfrm>
            <a:off x="4626000" y="5613480"/>
            <a:ext cx="2266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bCr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C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0" name="Object 5"/>
              <p:cNvSpPr txBox="1"/>
              <p:nvPr/>
            </p:nvSpPr>
            <p:spPr>
              <a:xfrm>
                <a:off x="2457360" y="5681520"/>
                <a:ext cx="14907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eO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Object 6"/>
              <p:cNvSpPr txBox="1"/>
              <p:nvPr/>
            </p:nvSpPr>
            <p:spPr>
              <a:xfrm>
                <a:off x="7183440" y="4408560"/>
                <a:ext cx="16351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gO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Object 7"/>
              <p:cNvSpPr txBox="1"/>
              <p:nvPr/>
            </p:nvSpPr>
            <p:spPr>
              <a:xfrm>
                <a:off x="7162920" y="5529240"/>
                <a:ext cx="1652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bCr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82520" y="162864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 се таложи у облику гвожђе(III)-хидроксида, а мери као гвожђе(III)-окс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"/>
          <p:cNvSpPr/>
          <p:nvPr/>
        </p:nvSpPr>
        <p:spPr>
          <a:xfrm>
            <a:off x="1692360" y="2349360"/>
            <a:ext cx="591336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Cl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NH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H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pt-B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(OH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↓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3NH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5"/>
          <p:cNvSpPr/>
          <p:nvPr/>
        </p:nvSpPr>
        <p:spPr>
          <a:xfrm>
            <a:off x="2077920" y="10555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ређивање садржаја гвожђ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7"/>
          <p:cNvSpPr/>
          <p:nvPr/>
        </p:nvSpPr>
        <p:spPr>
          <a:xfrm>
            <a:off x="182520" y="2800440"/>
            <a:ext cx="8713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е које се таложи нема тачно одређени стехиометријски састав и не одговара формули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ећ је то хидратисани гвожђе(III)-оксид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;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30-4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2"/>
          <p:cNvSpPr/>
          <p:nvPr/>
        </p:nvSpPr>
        <p:spPr>
          <a:xfrm>
            <a:off x="182520" y="3875040"/>
            <a:ext cx="864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ог се добија у облику колоид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ј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гревањем у присуству електролита коагулише, често у желатинозну масу, а продужено загревање није препоручљиво, јер долази до разлагања агрегата и талог постаје слузав што отежава његово цеђе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4"/>
          <p:cNvSpPr/>
          <p:nvPr/>
        </p:nvSpPr>
        <p:spPr>
          <a:xfrm>
            <a:off x="182520" y="5224320"/>
            <a:ext cx="88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исани гвожђе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оксид има велику склоност ка адсорпцији страних јона. Уколико се таложење изводи у базној средини, адсорбовани јони ће бит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и, због чега ће се на талогу копреципитовати катјони из раство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јумове соли испаравају и распадају се у току жар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182520" y="2522520"/>
            <a:ext cx="8724960" cy="27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исани гвожђе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оксид прелази загревањем на 800-1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гвожђе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окс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рење треба изводити у оксидационој средини, нарочито за време сагоревања цедила, јер у противном долази до редукције талога 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у извесним случајевима и до метала, при чему се боја талога м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а се спречава сагоревањем угљеника на малом пламену (благо загревање) обезбеђујући све време довољан приступ ваздуха и искључујући редукционе гасове из пламе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Object 5"/>
              <p:cNvSpPr txBox="1"/>
              <p:nvPr/>
            </p:nvSpPr>
            <p:spPr>
              <a:xfrm>
                <a:off x="1371600" y="1751040"/>
                <a:ext cx="25192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99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1" name="Group 4"/>
          <p:cNvGrpSpPr/>
          <p:nvPr/>
        </p:nvGrpSpPr>
        <p:grpSpPr>
          <a:xfrm>
            <a:off x="1423800" y="1120680"/>
            <a:ext cx="4312080" cy="580320"/>
            <a:chOff x="1423800" y="1120680"/>
            <a:chExt cx="4312080" cy="580320"/>
          </a:xfrm>
        </p:grpSpPr>
        <p:sp>
          <p:nvSpPr>
            <p:cNvPr id="1002" name="Rectangle 5"/>
            <p:cNvSpPr/>
            <p:nvPr/>
          </p:nvSpPr>
          <p:spPr>
            <a:xfrm>
              <a:off x="1423800" y="1225800"/>
              <a:ext cx="4312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Fe(OH)</a:t>
              </a:r>
              <a:r>
                <a:rPr b="1" lang="pt-BR" sz="2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Fe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+  3H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TextBox 6"/>
            <p:cNvSpPr/>
            <p:nvPr/>
          </p:nvSpPr>
          <p:spPr>
            <a:xfrm>
              <a:off x="2667600" y="1120680"/>
              <a:ext cx="905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00 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4" name="Straight Arrow Connector 7"/>
            <p:cNvCxnSpPr/>
            <p:nvPr/>
          </p:nvCxnSpPr>
          <p:spPr>
            <a:xfrm>
              <a:off x="2711520" y="1458360"/>
              <a:ext cx="721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05" name="Rectangle 8"/>
          <p:cNvSpPr/>
          <p:nvPr/>
        </p:nvSpPr>
        <p:spPr>
          <a:xfrm>
            <a:off x="184320" y="5288040"/>
            <a:ext cx="864072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шке могу бити последиц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тпуног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ји заостаје на зидовима чаш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дукције F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иже оксиде гвожђа, у току жарењ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тављања алкалног раствора, који садржи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 чаши преко ноћ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1"/>
          <p:cNvSpPr/>
          <p:nvPr/>
        </p:nvSpPr>
        <p:spPr>
          <a:xfrm>
            <a:off x="182520" y="1646280"/>
            <a:ext cx="864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виметрија, као аналитичка метода одређивања, се примењује када се врши анализа малог броја узорака и када је потребна веома висока тачност одређивања траженог парамет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"/>
          <p:cNvSpPr/>
          <p:nvPr/>
        </p:nvSpPr>
        <p:spPr>
          <a:xfrm>
            <a:off x="182520" y="3017880"/>
            <a:ext cx="756144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спешно гравиметријско одређивање потребно је д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акција таложења буде квантитативн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 издвојени талог лако цед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двојени талог буде довољно чис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рени облик талога има познати састав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рени облик талога није хигроскопан (пожељно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1"/>
          <p:cNvSpPr/>
          <p:nvPr/>
        </p:nvSpPr>
        <p:spPr>
          <a:xfrm>
            <a:off x="182520" y="2178000"/>
            <a:ext cx="86425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анализу двокомпонентне смеше понекад се примењује 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иректна гравиметријска анали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вом поступку се изводе два експериментална одређивања, једно је обично одређивање масе двокомпонентне смеш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љају се две једначине са две непозна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 је одредити 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оненти неког узорка, помоћу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зависних одређивања 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мултаних једначина, али се ретко примењује за одређивање више од две компонен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ст и прецизност је много мања него код директног одређива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2"/>
          <p:cNvSpPr/>
          <p:nvPr/>
        </p:nvSpPr>
        <p:spPr>
          <a:xfrm>
            <a:off x="1219320" y="124776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директна гравиметријска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1"/>
          <p:cNvSpPr/>
          <p:nvPr/>
        </p:nvSpPr>
        <p:spPr>
          <a:xfrm>
            <a:off x="182520" y="1135080"/>
            <a:ext cx="88930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ом узорка од 2,500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ког кречњака добијено је 0,250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еш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меша алкалних хлорида је затим таложена сребро-нитратом, при чему је добијено 0,500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рачунати масене удел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и K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у кречња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Box 3"/>
          <p:cNvSpPr/>
          <p:nvPr/>
        </p:nvSpPr>
        <p:spPr>
          <a:xfrm>
            <a:off x="182520" y="3068640"/>
            <a:ext cx="828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:  x = маса NaCl у узор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маса KCl у узор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једначина са две непознате је:     x + y =0,2500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4"/>
          <p:cNvSpPr/>
          <p:nvPr/>
        </p:nvSpPr>
        <p:spPr>
          <a:xfrm>
            <a:off x="182520" y="4389480"/>
            <a:ext cx="828216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друге једначине се долази полазећи од одно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AgCl)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AgCl)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Cl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000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жено преко гравиметријских фактора то 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1" name="Object 5"/>
          <p:cNvGraphicFramePr/>
          <p:nvPr/>
        </p:nvGraphicFramePr>
        <p:xfrm>
          <a:off x="1371600" y="5718240"/>
          <a:ext cx="4781520" cy="8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5718240"/>
                    <a:ext cx="478152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extBox 1"/>
          <p:cNvSpPr/>
          <p:nvPr/>
        </p:nvSpPr>
        <p:spPr>
          <a:xfrm>
            <a:off x="182520" y="1182600"/>
            <a:ext cx="862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рштавањем нумеричких вредности за ове факторе добија се друга једначи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4" name="Object 3"/>
          <p:cNvGraphicFramePr/>
          <p:nvPr/>
        </p:nvGraphicFramePr>
        <p:xfrm>
          <a:off x="1916280" y="1814400"/>
          <a:ext cx="4279680" cy="4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6280" y="1814400"/>
                    <a:ext cx="42796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6" name="TextBox 4"/>
          <p:cNvSpPr/>
          <p:nvPr/>
        </p:nvSpPr>
        <p:spPr>
          <a:xfrm>
            <a:off x="182520" y="2349360"/>
            <a:ext cx="68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м система ове две једначине добија с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7" name="Object 4"/>
          <p:cNvGraphicFramePr/>
          <p:nvPr/>
        </p:nvGraphicFramePr>
        <p:xfrm>
          <a:off x="1828800" y="2878200"/>
          <a:ext cx="170172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878200"/>
                    <a:ext cx="1701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9" name="Object 5"/>
          <p:cNvGraphicFramePr/>
          <p:nvPr/>
        </p:nvGraphicFramePr>
        <p:xfrm>
          <a:off x="1828800" y="3262320"/>
          <a:ext cx="1627200" cy="39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3262320"/>
                    <a:ext cx="16272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1" name="TextBox 8"/>
          <p:cNvSpPr/>
          <p:nvPr/>
        </p:nvSpPr>
        <p:spPr>
          <a:xfrm>
            <a:off x="3749760" y="285768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а NaCl у узор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а KCl у узор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9"/>
          <p:cNvSpPr/>
          <p:nvPr/>
        </p:nvSpPr>
        <p:spPr>
          <a:xfrm>
            <a:off x="182520" y="3789360"/>
            <a:ext cx="504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ни удео N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и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3" name="Object 6"/>
          <p:cNvGraphicFramePr/>
          <p:nvPr/>
        </p:nvGraphicFramePr>
        <p:xfrm>
          <a:off x="182520" y="4303800"/>
          <a:ext cx="7583400" cy="111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520" y="4303800"/>
                    <a:ext cx="758340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5" name="Object 7"/>
          <p:cNvGraphicFramePr/>
          <p:nvPr/>
        </p:nvGraphicFramePr>
        <p:xfrm>
          <a:off x="182520" y="5551560"/>
          <a:ext cx="7356600" cy="11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2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520" y="5551560"/>
                    <a:ext cx="735660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1"/>
          <p:cNvSpPr/>
          <p:nvPr/>
        </p:nvSpPr>
        <p:spPr>
          <a:xfrm>
            <a:off x="182520" y="1649520"/>
            <a:ext cx="889164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величине честица талога зависи могућност цеђења и чистоћа тало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зи са крупним честицама се лакше це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честица талога је праћено смањењем његовог онечишће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еличини честица талози се деле н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идне (1 – 10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сталне (десети делов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5130720" y="3706920"/>
            <a:ext cx="3252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 се слежу и лако це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2041560" y="110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жење и величина чес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4" name="Straight Arrow Connector 5"/>
          <p:cNvCxnSpPr/>
          <p:nvPr/>
        </p:nvCxnSpPr>
        <p:spPr>
          <a:xfrm>
            <a:off x="4143240" y="3941280"/>
            <a:ext cx="72144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765" name="Rectangle 1"/>
          <p:cNvSpPr/>
          <p:nvPr/>
        </p:nvSpPr>
        <p:spPr>
          <a:xfrm>
            <a:off x="182520" y="4273560"/>
            <a:ext cx="889308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е већине талога, па и оних колоидних имају кристалну структур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висности од услова таложења често се једно исто једињење може исталожити и у кристалном и у колоидном обли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4"/>
          <p:cNvSpPr/>
          <p:nvPr/>
        </p:nvSpPr>
        <p:spPr>
          <a:xfrm>
            <a:off x="457200" y="5838840"/>
            <a:ext cx="1079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" name="Straight Arrow Connector 8"/>
          <p:cNvCxnSpPr/>
          <p:nvPr/>
        </p:nvCxnSpPr>
        <p:spPr>
          <a:xfrm flipV="1">
            <a:off x="1542960" y="5715720"/>
            <a:ext cx="1440360" cy="36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768" name="Straight Arrow Connector 9"/>
          <p:cNvCxnSpPr/>
          <p:nvPr/>
        </p:nvCxnSpPr>
        <p:spPr>
          <a:xfrm>
            <a:off x="1542960" y="6076440"/>
            <a:ext cx="1440360" cy="36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769" name="Rectangle 2"/>
          <p:cNvSpPr/>
          <p:nvPr/>
        </p:nvSpPr>
        <p:spPr>
          <a:xfrm>
            <a:off x="3032280" y="5468760"/>
            <a:ext cx="61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и раствори → колоидни тало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3147480" y="6135840"/>
            <a:ext cx="507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лажени раствори → кристални тало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1"/>
          <p:cNvSpPr/>
          <p:nvPr/>
        </p:nvSpPr>
        <p:spPr>
          <a:xfrm>
            <a:off x="473040" y="10317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личина честица и релативна презасићеност раст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2"/>
          <p:cNvSpPr/>
          <p:nvPr/>
        </p:nvSpPr>
        <p:spPr>
          <a:xfrm>
            <a:off x="182520" y="2886120"/>
            <a:ext cx="7993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– концентрација растворене супстанце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у тренутку када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иње таложе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нцентрација растворене супстанце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у засићеном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у – количинска растворљив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482400" y="2131920"/>
            <a:ext cx="428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а презасићеност раств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Object 3"/>
              <p:cNvSpPr txBox="1"/>
              <p:nvPr/>
            </p:nvSpPr>
            <p:spPr>
              <a:xfrm>
                <a:off x="4664160" y="1989000"/>
                <a:ext cx="10522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5" name="Rectangle 1"/>
          <p:cNvSpPr/>
          <p:nvPr/>
        </p:nvSpPr>
        <p:spPr>
          <a:xfrm>
            <a:off x="182520" y="4424400"/>
            <a:ext cx="875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ак таложног реагенса прво доводи до тренутне презасићености раствора: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&gt;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2"/>
          <p:cNvSpPr/>
          <p:nvPr/>
        </p:nvSpPr>
        <p:spPr>
          <a:xfrm>
            <a:off x="182520" y="5162400"/>
            <a:ext cx="871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е презасићености није стабилно, вишак растворене супстанце се таложи и систем долази у стање равнотеже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182520" y="607068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честица је обрнуто пропорционална презасићењ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1"/>
          <p:cNvSpPr/>
          <p:nvPr/>
        </p:nvSpPr>
        <p:spPr>
          <a:xfrm>
            <a:off x="182520" y="2238480"/>
            <a:ext cx="871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двајању чврсте фазе из раствора одвијају се два процеса, при чему брзине оба процеса одређују величину честиц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уклеација (стварање ,‚клица”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т крист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2"/>
          <p:cNvSpPr/>
          <p:nvPr/>
        </p:nvSpPr>
        <p:spPr>
          <a:xfrm>
            <a:off x="2568240" y="127944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зам талож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" descr=""/>
          <p:cNvPicPr/>
          <p:nvPr/>
        </p:nvPicPr>
        <p:blipFill>
          <a:blip r:embed="rId1"/>
          <a:stretch/>
        </p:blipFill>
        <p:spPr>
          <a:xfrm>
            <a:off x="1371600" y="4022640"/>
            <a:ext cx="6168960" cy="1559160"/>
          </a:xfrm>
          <a:prstGeom prst="rect">
            <a:avLst/>
          </a:prstGeom>
          <a:ln w="0">
            <a:noFill/>
          </a:ln>
        </p:spPr>
      </p:pic>
      <p:sp>
        <p:nvSpPr>
          <p:cNvPr id="781" name="Rectangle 5"/>
          <p:cNvSpPr/>
          <p:nvPr/>
        </p:nvSpPr>
        <p:spPr>
          <a:xfrm>
            <a:off x="3267000" y="4272120"/>
            <a:ext cx="15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чест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1"/>
          <p:cNvSpPr/>
          <p:nvPr/>
        </p:nvSpPr>
        <p:spPr>
          <a:xfrm>
            <a:off x="182520" y="3657600"/>
            <a:ext cx="474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етероген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уклеација– индукована  (прашина, нерастворне нечистоће, површина суда) доводи до почетног удруживања јо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Group 11"/>
          <p:cNvGrpSpPr/>
          <p:nvPr/>
        </p:nvGrpSpPr>
        <p:grpSpPr>
          <a:xfrm>
            <a:off x="5294880" y="3108240"/>
            <a:ext cx="3202920" cy="3454560"/>
            <a:chOff x="5294880" y="3108240"/>
            <a:chExt cx="3202920" cy="3454560"/>
          </a:xfrm>
        </p:grpSpPr>
        <p:pic>
          <p:nvPicPr>
            <p:cNvPr id="784" name="Picture 4" descr=""/>
            <p:cNvPicPr/>
            <p:nvPr/>
          </p:nvPicPr>
          <p:blipFill>
            <a:blip r:embed="rId1"/>
            <a:stretch/>
          </p:blipFill>
          <p:spPr>
            <a:xfrm>
              <a:off x="6050520" y="3108240"/>
              <a:ext cx="151416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Picture 5" descr="C:\Users\Maca\Desktop\Untitled8.png"/>
            <p:cNvPicPr/>
            <p:nvPr/>
          </p:nvPicPr>
          <p:blipFill>
            <a:blip r:embed="rId2"/>
            <a:stretch/>
          </p:blipFill>
          <p:spPr>
            <a:xfrm>
              <a:off x="6049800" y="5629320"/>
              <a:ext cx="1942920" cy="9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Picture 7" descr="C:\Users\Maca\Desktop\Untitled9.png"/>
            <p:cNvPicPr/>
            <p:nvPr/>
          </p:nvPicPr>
          <p:blipFill>
            <a:blip r:embed="rId3"/>
            <a:stretch/>
          </p:blipFill>
          <p:spPr>
            <a:xfrm rot="525000">
              <a:off x="6499800" y="4625640"/>
              <a:ext cx="111420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Rectangle 15"/>
            <p:cNvSpPr/>
            <p:nvPr/>
          </p:nvSpPr>
          <p:spPr>
            <a:xfrm>
              <a:off x="5294880" y="489528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етероге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6"/>
            <p:cNvSpPr/>
            <p:nvPr/>
          </p:nvSpPr>
          <p:spPr>
            <a:xfrm>
              <a:off x="7309800" y="4888080"/>
              <a:ext cx="11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омогена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Rectangle 12"/>
          <p:cNvSpPr/>
          <p:nvPr/>
        </p:nvSpPr>
        <p:spPr>
          <a:xfrm>
            <a:off x="182520" y="1463760"/>
            <a:ext cx="856620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уклеациј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 би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моген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ациј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понтана (случајна) орјентација јона или молекула; стварају се групе или асоцијације јона раствореног талога „ројеви”; када достигну критичну вредност настају клице или нуклеуси који могу даље да рас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0:47:46Z</dcterms:created>
  <dc:creator>Korisnik</dc:creator>
  <dc:description/>
  <dc:language>en-US</dc:language>
  <cp:lastModifiedBy>korisnik</cp:lastModifiedBy>
  <dcterms:modified xsi:type="dcterms:W3CDTF">2017-12-15T11:38:25Z</dcterms:modified>
  <cp:revision>531</cp:revision>
  <dc:subject/>
  <dc:title>Slide 1</dc:title>
</cp:coreProperties>
</file>